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CAE-2EC3-4C00-969B-6918B65E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B4D-99A5-49FC-AE38-8BFCC7DE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EB8-484F-40BC-AE79-EEF628B5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1C4-F77F-4EB3-B17A-377475CE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77C-A913-4421-B007-2F513DE4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6AB-0147-4CC4-A697-D669567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71A-A095-4DFA-AFBC-C17BEAAF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ED5-E492-4675-B514-84F4B88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E0F-747E-4C16-924A-E242DC97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158-F14E-4640-8155-4C8AEA9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233-BDC2-4C8F-BFA2-2EF59AE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5FD-AC2B-40D3-93FE-0A08089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563-0F91-4001-92D6-5F72CE45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18760" y="3397320"/>
            <a:ext cx="29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66ccff"/>
                </a:solidFill>
                <a:latin typeface="Tempus Sans ITC"/>
                <a:ea typeface="Times New Roman"/>
              </a:rPr>
              <a:t>Be </a:t>
            </a:r>
            <a:r>
              <a:rPr b="1" lang="en-GB" sz="4800" spc="-1" strike="noStrike">
                <a:solidFill>
                  <a:srgbClr val="66ccff"/>
                </a:solidFill>
                <a:latin typeface="Tempus Sans ITC"/>
                <a:ea typeface="Times New Roman"/>
              </a:rPr>
              <a:t>Still</a:t>
            </a:r>
            <a:r>
              <a:rPr b="1" lang="pl-PL" sz="4800" spc="-1" strike="noStrike">
                <a:solidFill>
                  <a:srgbClr val="66ccff"/>
                </a:solidFill>
                <a:latin typeface="Tempus Sans ITC"/>
                <a:ea typeface="Times New Roman"/>
              </a:rPr>
              <a:t>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435960" y="347760"/>
            <a:ext cx="8742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presence of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The Holy One is 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Come bow before Him now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Reverence and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In Him no sin is found, we stand on holy g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presence of the L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the Holy One is here.</a:t>
            </a:r>
            <a:r>
              <a:rPr b="1" lang="pl-PL" sz="2800" spc="-1" strike="noStrike">
                <a:solidFill>
                  <a:srgbClr val="6633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71440" y="282600"/>
            <a:ext cx="702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glory of the Lor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shining all a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He burns with holy fire, with spl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He is crow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How awesome is the sight, our rad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King of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glory of the Lor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Shining all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080" y="324000"/>
            <a:ext cx="651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power of the Lor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Moving in thi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He comes to cleanse and heal,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Minister His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[: </a:t>
            </a: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No work too hard for Him, in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Receive from H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Be still, for the power of the Lor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Moving in this place.</a:t>
            </a:r>
            <a:r>
              <a:rPr b="1" lang="pl-PL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: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45:15Z</dcterms:created>
  <dc:creator>TrifonTrifonow</dc:creator>
  <dc:description/>
  <dc:language>en-US</dc:language>
  <cp:lastModifiedBy>TrifonTrifonow</cp:lastModifiedBy>
  <dcterms:modified xsi:type="dcterms:W3CDTF">2005-12-28T05:45:31Z</dcterms:modified>
  <cp:revision>1</cp:revision>
  <dc:subject/>
  <dc:title>Slide 1</dc:title>
</cp:coreProperties>
</file>